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FFA47D5-E01F-44FF-9BF0-3EF22D724B4D}" type="doc">
      <dgm:prSet loTypeId="urn:microsoft.com/office/officeart/2005/8/layout/funnel1" loCatId="relationship" qsTypeId="urn:microsoft.com/office/officeart/2005/8/quickstyle/3d2" qsCatId="3D" csTypeId="urn:microsoft.com/office/officeart/2005/8/colors/colorful5" csCatId="colorful" phldr="1"/>
      <dgm:spPr/>
      <dgm:t>
        <a:bodyPr/>
        <a:lstStyle/>
        <a:p>
          <a:endParaRPr lang="en-US"/>
        </a:p>
      </dgm:t>
    </dgm:pt>
    <dgm:pt modelId="{B706EA68-4594-4A08-9A8E-CB5981770FF0}">
      <dgm:prSet phldrT="[Text]"/>
      <dgm:spPr/>
      <dgm:t>
        <a:bodyPr/>
        <a:lstStyle/>
        <a:p>
          <a:r>
            <a:rPr lang="en-US" dirty="0" smtClean="0"/>
            <a:t>Mid-Life Crisis</a:t>
          </a:r>
          <a:endParaRPr lang="en-US" dirty="0"/>
        </a:p>
      </dgm:t>
    </dgm:pt>
    <dgm:pt modelId="{7A53DED9-D310-480F-A1F2-C67B7835A267}" type="parTrans" cxnId="{6187F022-56F6-407E-837E-8990519713E3}">
      <dgm:prSet/>
      <dgm:spPr/>
      <dgm:t>
        <a:bodyPr/>
        <a:lstStyle/>
        <a:p>
          <a:endParaRPr lang="en-US"/>
        </a:p>
      </dgm:t>
    </dgm:pt>
    <dgm:pt modelId="{E18235B8-5D59-4847-B29D-A8C6FF313D22}" type="sibTrans" cxnId="{6187F022-56F6-407E-837E-8990519713E3}">
      <dgm:prSet/>
      <dgm:spPr/>
      <dgm:t>
        <a:bodyPr/>
        <a:lstStyle/>
        <a:p>
          <a:endParaRPr lang="en-US"/>
        </a:p>
      </dgm:t>
    </dgm:pt>
    <dgm:pt modelId="{F2F035EC-397C-44CF-B486-F8EBF7F424B3}">
      <dgm:prSet phldrT="[Text]"/>
      <dgm:spPr/>
      <dgm:t>
        <a:bodyPr/>
        <a:lstStyle/>
        <a:p>
          <a:r>
            <a:rPr lang="en-US" dirty="0" smtClean="0"/>
            <a:t>Age Of Mastery</a:t>
          </a:r>
          <a:endParaRPr lang="en-US" dirty="0"/>
        </a:p>
      </dgm:t>
    </dgm:pt>
    <dgm:pt modelId="{675FBA8D-7AFE-4FA2-989A-0BCDBBF03810}" type="parTrans" cxnId="{E193162D-6A95-4560-B0B9-FE8D8F6E0A8C}">
      <dgm:prSet/>
      <dgm:spPr/>
      <dgm:t>
        <a:bodyPr/>
        <a:lstStyle/>
        <a:p>
          <a:endParaRPr lang="en-US"/>
        </a:p>
      </dgm:t>
    </dgm:pt>
    <dgm:pt modelId="{1F40D6CF-9B8C-4DA0-B037-E2C1F967A9BA}" type="sibTrans" cxnId="{E193162D-6A95-4560-B0B9-FE8D8F6E0A8C}">
      <dgm:prSet/>
      <dgm:spPr/>
      <dgm:t>
        <a:bodyPr/>
        <a:lstStyle/>
        <a:p>
          <a:endParaRPr lang="en-US"/>
        </a:p>
      </dgm:t>
    </dgm:pt>
    <dgm:pt modelId="{DAA1ED76-84C4-4B11-82AD-DEA9B7ED439E}">
      <dgm:prSet phldrT="[Text]"/>
      <dgm:spPr/>
      <dgm:t>
        <a:bodyPr/>
        <a:lstStyle/>
        <a:p>
          <a:r>
            <a:rPr lang="en-US" dirty="0" err="1" smtClean="0"/>
            <a:t>Middlescence</a:t>
          </a:r>
          <a:r>
            <a:rPr lang="en-US" dirty="0" smtClean="0"/>
            <a:t> </a:t>
          </a:r>
          <a:endParaRPr lang="en-US" dirty="0"/>
        </a:p>
      </dgm:t>
    </dgm:pt>
    <dgm:pt modelId="{E5767D2A-98FA-46E3-8D41-950010F3A6AB}" type="parTrans" cxnId="{0CB1ADE6-8F88-468D-80CE-4046AC1CA7DE}">
      <dgm:prSet/>
      <dgm:spPr/>
      <dgm:t>
        <a:bodyPr/>
        <a:lstStyle/>
        <a:p>
          <a:endParaRPr lang="en-US"/>
        </a:p>
      </dgm:t>
    </dgm:pt>
    <dgm:pt modelId="{8052D0FC-8837-4F4F-9508-520A75A05FD3}" type="sibTrans" cxnId="{0CB1ADE6-8F88-468D-80CE-4046AC1CA7DE}">
      <dgm:prSet/>
      <dgm:spPr/>
      <dgm:t>
        <a:bodyPr/>
        <a:lstStyle/>
        <a:p>
          <a:endParaRPr lang="en-US"/>
        </a:p>
      </dgm:t>
    </dgm:pt>
    <dgm:pt modelId="{A92D4E86-CAF3-4CA7-855D-0DF65C776044}">
      <dgm:prSet phldrT="[Text]"/>
      <dgm:spPr/>
      <dgm:t>
        <a:bodyPr/>
        <a:lstStyle/>
        <a:p>
          <a:r>
            <a:rPr lang="en-US" dirty="0" smtClean="0"/>
            <a:t>Identity Achievement</a:t>
          </a:r>
          <a:endParaRPr lang="en-US" dirty="0"/>
        </a:p>
      </dgm:t>
    </dgm:pt>
    <dgm:pt modelId="{CC087DD2-7968-45BF-A130-CE697C6BAC07}" type="parTrans" cxnId="{2EA98137-D3F7-4607-81AB-82C8F5967C7C}">
      <dgm:prSet/>
      <dgm:spPr/>
      <dgm:t>
        <a:bodyPr/>
        <a:lstStyle/>
        <a:p>
          <a:endParaRPr lang="en-US"/>
        </a:p>
      </dgm:t>
    </dgm:pt>
    <dgm:pt modelId="{8E1F5199-4661-4337-AB08-3A9C429AC079}" type="sibTrans" cxnId="{2EA98137-D3F7-4607-81AB-82C8F5967C7C}">
      <dgm:prSet/>
      <dgm:spPr/>
      <dgm:t>
        <a:bodyPr/>
        <a:lstStyle/>
        <a:p>
          <a:endParaRPr lang="en-US"/>
        </a:p>
      </dgm:t>
    </dgm:pt>
    <dgm:pt modelId="{A7688C89-0F63-4AAC-B6A3-218AE12BB28F}" type="pres">
      <dgm:prSet presAssocID="{BFFA47D5-E01F-44FF-9BF0-3EF22D724B4D}" presName="Name0" presStyleCnt="0">
        <dgm:presLayoutVars>
          <dgm:chMax val="4"/>
          <dgm:resizeHandles val="exact"/>
        </dgm:presLayoutVars>
      </dgm:prSet>
      <dgm:spPr/>
    </dgm:pt>
    <dgm:pt modelId="{1A8663C3-E707-4F06-8CD9-B38B552A2337}" type="pres">
      <dgm:prSet presAssocID="{BFFA47D5-E01F-44FF-9BF0-3EF22D724B4D}" presName="ellipse" presStyleLbl="trBgShp" presStyleIdx="0" presStyleCnt="1"/>
      <dgm:spPr/>
    </dgm:pt>
    <dgm:pt modelId="{F8C75483-25E7-4A6A-88E6-ABD777688484}" type="pres">
      <dgm:prSet presAssocID="{BFFA47D5-E01F-44FF-9BF0-3EF22D724B4D}" presName="arrow1" presStyleLbl="fgShp" presStyleIdx="0" presStyleCnt="1"/>
      <dgm:spPr/>
    </dgm:pt>
    <dgm:pt modelId="{450862BC-7D98-4465-AD6B-212A238A6FE2}" type="pres">
      <dgm:prSet presAssocID="{BFFA47D5-E01F-44FF-9BF0-3EF22D724B4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D4B96047-40A3-45F1-8CA4-56F6E9397B67}" type="pres">
      <dgm:prSet presAssocID="{F2F035EC-397C-44CF-B486-F8EBF7F424B3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A294344-6BAC-4160-84D0-D0B502917A6D}" type="pres">
      <dgm:prSet presAssocID="{DAA1ED76-84C4-4B11-82AD-DEA9B7ED439E}" presName="item2" presStyleLbl="node1" presStyleIdx="1" presStyleCnt="3">
        <dgm:presLayoutVars>
          <dgm:bulletEnabled val="1"/>
        </dgm:presLayoutVars>
      </dgm:prSet>
      <dgm:spPr/>
    </dgm:pt>
    <dgm:pt modelId="{9B9A88F3-7A7D-43A4-AA2B-9099545A0EB0}" type="pres">
      <dgm:prSet presAssocID="{A92D4E86-CAF3-4CA7-855D-0DF65C776044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14F3D193-5D83-4E8D-B72B-FB1493B3E637}" type="pres">
      <dgm:prSet presAssocID="{BFFA47D5-E01F-44FF-9BF0-3EF22D724B4D}" presName="funnel" presStyleLbl="trAlignAcc1" presStyleIdx="0" presStyleCnt="1" custLinFactNeighborX="-1570" custLinFactNeighborY="-109"/>
      <dgm:spPr/>
    </dgm:pt>
  </dgm:ptLst>
  <dgm:cxnLst>
    <dgm:cxn modelId="{6187F022-56F6-407E-837E-8990519713E3}" srcId="{BFFA47D5-E01F-44FF-9BF0-3EF22D724B4D}" destId="{B706EA68-4594-4A08-9A8E-CB5981770FF0}" srcOrd="0" destOrd="0" parTransId="{7A53DED9-D310-480F-A1F2-C67B7835A267}" sibTransId="{E18235B8-5D59-4847-B29D-A8C6FF313D22}"/>
    <dgm:cxn modelId="{040C8480-C38F-4C90-8B5C-C7A5B4F4C4BF}" type="presOf" srcId="{DAA1ED76-84C4-4B11-82AD-DEA9B7ED439E}" destId="{D4B96047-40A3-45F1-8CA4-56F6E9397B67}" srcOrd="0" destOrd="0" presId="urn:microsoft.com/office/officeart/2005/8/layout/funnel1"/>
    <dgm:cxn modelId="{2EA98137-D3F7-4607-81AB-82C8F5967C7C}" srcId="{BFFA47D5-E01F-44FF-9BF0-3EF22D724B4D}" destId="{A92D4E86-CAF3-4CA7-855D-0DF65C776044}" srcOrd="3" destOrd="0" parTransId="{CC087DD2-7968-45BF-A130-CE697C6BAC07}" sibTransId="{8E1F5199-4661-4337-AB08-3A9C429AC079}"/>
    <dgm:cxn modelId="{9566355E-F241-453F-858E-59603A890F55}" type="presOf" srcId="{BFFA47D5-E01F-44FF-9BF0-3EF22D724B4D}" destId="{A7688C89-0F63-4AAC-B6A3-218AE12BB28F}" srcOrd="0" destOrd="0" presId="urn:microsoft.com/office/officeart/2005/8/layout/funnel1"/>
    <dgm:cxn modelId="{26A132AA-4CF3-4189-A6EC-474ABFEB6D6D}" type="presOf" srcId="{A92D4E86-CAF3-4CA7-855D-0DF65C776044}" destId="{450862BC-7D98-4465-AD6B-212A238A6FE2}" srcOrd="0" destOrd="0" presId="urn:microsoft.com/office/officeart/2005/8/layout/funnel1"/>
    <dgm:cxn modelId="{0CB1ADE6-8F88-468D-80CE-4046AC1CA7DE}" srcId="{BFFA47D5-E01F-44FF-9BF0-3EF22D724B4D}" destId="{DAA1ED76-84C4-4B11-82AD-DEA9B7ED439E}" srcOrd="2" destOrd="0" parTransId="{E5767D2A-98FA-46E3-8D41-950010F3A6AB}" sibTransId="{8052D0FC-8837-4F4F-9508-520A75A05FD3}"/>
    <dgm:cxn modelId="{3F0F24FA-DECC-4116-A167-37F61C21206E}" type="presOf" srcId="{F2F035EC-397C-44CF-B486-F8EBF7F424B3}" destId="{FA294344-6BAC-4160-84D0-D0B502917A6D}" srcOrd="0" destOrd="0" presId="urn:microsoft.com/office/officeart/2005/8/layout/funnel1"/>
    <dgm:cxn modelId="{E193162D-6A95-4560-B0B9-FE8D8F6E0A8C}" srcId="{BFFA47D5-E01F-44FF-9BF0-3EF22D724B4D}" destId="{F2F035EC-397C-44CF-B486-F8EBF7F424B3}" srcOrd="1" destOrd="0" parTransId="{675FBA8D-7AFE-4FA2-989A-0BCDBBF03810}" sibTransId="{1F40D6CF-9B8C-4DA0-B037-E2C1F967A9BA}"/>
    <dgm:cxn modelId="{95D486B1-44CE-41A1-9749-CD5EC60D10B0}" type="presOf" srcId="{B706EA68-4594-4A08-9A8E-CB5981770FF0}" destId="{9B9A88F3-7A7D-43A4-AA2B-9099545A0EB0}" srcOrd="0" destOrd="0" presId="urn:microsoft.com/office/officeart/2005/8/layout/funnel1"/>
    <dgm:cxn modelId="{2CAB8CD6-6EB5-4495-9FCF-EC0F0FCA0919}" type="presParOf" srcId="{A7688C89-0F63-4AAC-B6A3-218AE12BB28F}" destId="{1A8663C3-E707-4F06-8CD9-B38B552A2337}" srcOrd="0" destOrd="0" presId="urn:microsoft.com/office/officeart/2005/8/layout/funnel1"/>
    <dgm:cxn modelId="{AE571F6E-EDB9-4B4D-84A8-429E0613411C}" type="presParOf" srcId="{A7688C89-0F63-4AAC-B6A3-218AE12BB28F}" destId="{F8C75483-25E7-4A6A-88E6-ABD777688484}" srcOrd="1" destOrd="0" presId="urn:microsoft.com/office/officeart/2005/8/layout/funnel1"/>
    <dgm:cxn modelId="{141D0A05-3D32-4573-A991-B84291705B22}" type="presParOf" srcId="{A7688C89-0F63-4AAC-B6A3-218AE12BB28F}" destId="{450862BC-7D98-4465-AD6B-212A238A6FE2}" srcOrd="2" destOrd="0" presId="urn:microsoft.com/office/officeart/2005/8/layout/funnel1"/>
    <dgm:cxn modelId="{EEF3943F-BD17-4AA3-81D6-CC6AFB264E10}" type="presParOf" srcId="{A7688C89-0F63-4AAC-B6A3-218AE12BB28F}" destId="{D4B96047-40A3-45F1-8CA4-56F6E9397B67}" srcOrd="3" destOrd="0" presId="urn:microsoft.com/office/officeart/2005/8/layout/funnel1"/>
    <dgm:cxn modelId="{C49583C2-B7C2-4D1A-AA2B-80B8273E5310}" type="presParOf" srcId="{A7688C89-0F63-4AAC-B6A3-218AE12BB28F}" destId="{FA294344-6BAC-4160-84D0-D0B502917A6D}" srcOrd="4" destOrd="0" presId="urn:microsoft.com/office/officeart/2005/8/layout/funnel1"/>
    <dgm:cxn modelId="{EA9C06F2-1B60-4565-888D-289B0361E541}" type="presParOf" srcId="{A7688C89-0F63-4AAC-B6A3-218AE12BB28F}" destId="{9B9A88F3-7A7D-43A4-AA2B-9099545A0EB0}" srcOrd="5" destOrd="0" presId="urn:microsoft.com/office/officeart/2005/8/layout/funnel1"/>
    <dgm:cxn modelId="{7023AC1E-69EB-4806-B425-AF63FDFC63AE}" type="presParOf" srcId="{A7688C89-0F63-4AAC-B6A3-218AE12BB28F}" destId="{14F3D193-5D83-4E8D-B72B-FB1493B3E637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A8663C3-E707-4F06-8CD9-B38B552A2337}">
      <dsp:nvSpPr>
        <dsp:cNvPr id="0" name=""/>
        <dsp:cNvSpPr/>
      </dsp:nvSpPr>
      <dsp:spPr>
        <a:xfrm>
          <a:off x="1798796" y="278606"/>
          <a:ext cx="5529262" cy="1920240"/>
        </a:xfrm>
        <a:prstGeom prst="ellipse">
          <a:avLst/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p3d z="-152400" prstMaterial="matte"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8C75483-25E7-4A6A-88E6-ABD777688484}">
      <dsp:nvSpPr>
        <dsp:cNvPr id="0" name=""/>
        <dsp:cNvSpPr/>
      </dsp:nvSpPr>
      <dsp:spPr>
        <a:xfrm>
          <a:off x="4036218" y="4980622"/>
          <a:ext cx="1071562" cy="685800"/>
        </a:xfrm>
        <a:prstGeom prst="downArrow">
          <a:avLst/>
        </a:prstGeom>
        <a:solidFill>
          <a:schemeClr val="accent5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z="152400" extrusionH="63500" prstMaterial="matte">
          <a:bevelT w="50800" h="19050" prst="relaxedInset"/>
          <a:contourClr>
            <a:schemeClr val="bg1"/>
          </a:contourClr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0862BC-7D98-4465-AD6B-212A238A6FE2}">
      <dsp:nvSpPr>
        <dsp:cNvPr id="0" name=""/>
        <dsp:cNvSpPr/>
      </dsp:nvSpPr>
      <dsp:spPr>
        <a:xfrm>
          <a:off x="2000249" y="5529262"/>
          <a:ext cx="5143500" cy="128587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1808" tIns="241808" rIns="241808" bIns="241808" numCol="1" spcCol="1270" anchor="ctr" anchorCtr="0">
          <a:noAutofit/>
        </a:bodyPr>
        <a:lstStyle/>
        <a:p>
          <a:pPr lvl="0" algn="ctr" defTabSz="1511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400" kern="1200" dirty="0" smtClean="0"/>
            <a:t>Identity Achievement</a:t>
          </a:r>
          <a:endParaRPr lang="en-US" sz="3400" kern="1200" dirty="0"/>
        </a:p>
      </dsp:txBody>
      <dsp:txXfrm>
        <a:off x="2000249" y="5529262"/>
        <a:ext cx="5143500" cy="1285875"/>
      </dsp:txXfrm>
    </dsp:sp>
    <dsp:sp modelId="{D4B96047-40A3-45F1-8CA4-56F6E9397B67}">
      <dsp:nvSpPr>
        <dsp:cNvPr id="0" name=""/>
        <dsp:cNvSpPr/>
      </dsp:nvSpPr>
      <dsp:spPr>
        <a:xfrm>
          <a:off x="3809047" y="2347150"/>
          <a:ext cx="1928812" cy="1928812"/>
        </a:xfrm>
        <a:prstGeom prst="ellipse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98000"/>
                <a:satMod val="120000"/>
                <a:lumMod val="11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shade val="90000"/>
                <a:lumMod val="90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500" kern="1200" dirty="0" err="1" smtClean="0"/>
            <a:t>Middlescence</a:t>
          </a:r>
          <a:r>
            <a:rPr lang="en-US" sz="1500" kern="1200" dirty="0" smtClean="0"/>
            <a:t> </a:t>
          </a:r>
          <a:endParaRPr lang="en-US" sz="1500" kern="1200" dirty="0"/>
        </a:p>
      </dsp:txBody>
      <dsp:txXfrm>
        <a:off x="4091515" y="2629618"/>
        <a:ext cx="1363876" cy="1363876"/>
      </dsp:txXfrm>
    </dsp:sp>
    <dsp:sp modelId="{FA294344-6BAC-4160-84D0-D0B502917A6D}">
      <dsp:nvSpPr>
        <dsp:cNvPr id="0" name=""/>
        <dsp:cNvSpPr/>
      </dsp:nvSpPr>
      <dsp:spPr>
        <a:xfrm>
          <a:off x="2428874" y="900112"/>
          <a:ext cx="1928812" cy="1928812"/>
        </a:xfrm>
        <a:prstGeom prst="ellipse">
          <a:avLst/>
        </a:prstGeom>
        <a:gradFill rotWithShape="0">
          <a:gsLst>
            <a:gs pos="0">
              <a:schemeClr val="accent5">
                <a:hueOff val="-326222"/>
                <a:satOff val="-1491"/>
                <a:lumOff val="-3530"/>
                <a:alphaOff val="0"/>
                <a:tint val="98000"/>
                <a:satMod val="120000"/>
                <a:lumMod val="110000"/>
              </a:schemeClr>
            </a:gs>
            <a:gs pos="100000">
              <a:schemeClr val="accent5">
                <a:hueOff val="-326222"/>
                <a:satOff val="-1491"/>
                <a:lumOff val="-3530"/>
                <a:alphaOff val="0"/>
                <a:shade val="90000"/>
                <a:lumMod val="90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500" kern="1200" dirty="0" smtClean="0"/>
            <a:t>Age Of Mastery</a:t>
          </a:r>
          <a:endParaRPr lang="en-US" sz="1500" kern="1200" dirty="0"/>
        </a:p>
      </dsp:txBody>
      <dsp:txXfrm>
        <a:off x="2711342" y="1182580"/>
        <a:ext cx="1363876" cy="1363876"/>
      </dsp:txXfrm>
    </dsp:sp>
    <dsp:sp modelId="{9B9A88F3-7A7D-43A4-AA2B-9099545A0EB0}">
      <dsp:nvSpPr>
        <dsp:cNvPr id="0" name=""/>
        <dsp:cNvSpPr/>
      </dsp:nvSpPr>
      <dsp:spPr>
        <a:xfrm>
          <a:off x="4400550" y="433768"/>
          <a:ext cx="1928812" cy="1928812"/>
        </a:xfrm>
        <a:prstGeom prst="ellipse">
          <a:avLst/>
        </a:prstGeom>
        <a:gradFill rotWithShape="0">
          <a:gsLst>
            <a:gs pos="0">
              <a:schemeClr val="accent5">
                <a:hueOff val="-652444"/>
                <a:satOff val="-2983"/>
                <a:lumOff val="-7060"/>
                <a:alphaOff val="0"/>
                <a:tint val="98000"/>
                <a:satMod val="120000"/>
                <a:lumMod val="110000"/>
              </a:schemeClr>
            </a:gs>
            <a:gs pos="100000">
              <a:schemeClr val="accent5">
                <a:hueOff val="-652444"/>
                <a:satOff val="-2983"/>
                <a:lumOff val="-7060"/>
                <a:alphaOff val="0"/>
                <a:shade val="90000"/>
                <a:lumMod val="90000"/>
              </a:schemeClr>
            </a:gs>
          </a:gsLst>
          <a:lin ang="5400000" scaled="0"/>
        </a:gradFill>
        <a:ln>
          <a:noFill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25400" prst="relaxedInset"/>
        </a:sp3d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9050" tIns="19050" rIns="19050" bIns="19050" numCol="1" spcCol="1270" anchor="ctr" anchorCtr="0">
          <a:noAutofit/>
        </a:bodyPr>
        <a:lstStyle/>
        <a:p>
          <a:pPr lvl="0" algn="ctr" defTabSz="6667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500" kern="1200" dirty="0" smtClean="0"/>
            <a:t>Mid-Life Crisis</a:t>
          </a:r>
          <a:endParaRPr lang="en-US" sz="1500" kern="1200" dirty="0"/>
        </a:p>
      </dsp:txBody>
      <dsp:txXfrm>
        <a:off x="4683018" y="716236"/>
        <a:ext cx="1363876" cy="1363876"/>
      </dsp:txXfrm>
    </dsp:sp>
    <dsp:sp modelId="{14F3D193-5D83-4E8D-B72B-FB1493B3E637}">
      <dsp:nvSpPr>
        <dsp:cNvPr id="0" name=""/>
        <dsp:cNvSpPr/>
      </dsp:nvSpPr>
      <dsp:spPr>
        <a:xfrm>
          <a:off x="1477413" y="37629"/>
          <a:ext cx="6000750" cy="4800600"/>
        </a:xfrm>
        <a:prstGeom prst="funnel">
          <a:avLst/>
        </a:prstGeom>
        <a:solidFill>
          <a:schemeClr val="lt1">
            <a:alpha val="40000"/>
            <a:hueOff val="0"/>
            <a:satOff val="0"/>
            <a:lumOff val="0"/>
            <a:alphaOff val="0"/>
          </a:schemeClr>
        </a:solidFill>
        <a:ln w="12700" cap="rnd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38100" dist="25400" dir="5400000" rotWithShape="0">
            <a:srgbClr val="000000">
              <a:alpha val="45000"/>
            </a:srgbClr>
          </a:outerShdw>
        </a:effectLst>
        <a:scene3d>
          <a:camera prst="orthographicFront"/>
          <a:lightRig rig="threePt" dir="t">
            <a:rot lat="0" lon="0" rev="7500000"/>
          </a:lightRig>
        </a:scene3d>
        <a:sp3d prstMaterial="plastic">
          <a:bevelT w="127000" h="3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2FC78E-0E52-4DB5-956A-0B8D810D5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k Erikson believed the biggest struggle for middle-aged adults is the ability to create, originate, and produce (generativit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 support they they are creative within various areas of their lives such as their careers, families, social circles, and commun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CB81FB-692A-45B9-A88A-4EF8AFCDF1F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goal sheets while students do th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AE5B5D-B315-486A-9197-47AE704D0B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0E4-641A-4998-95CE-88995A5E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C85-007C-4E23-88AE-49AFB91C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49D-0B22-420A-9A7D-3137A72F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BDC-1282-4580-B348-B000DFFB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CB83-F9B7-4BF2-ADED-8B53DEB5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080-86CD-43D1-84BB-C92F2D0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87A6-24D1-4CA1-985B-901BB92D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ED25-1D99-4466-BAA1-FCDB72F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0673-C02D-4FBD-8B23-C319429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2967-E238-45CA-8F76-DF80F67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9DEE-466D-40FB-8AA3-C9E0710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A07-9937-460F-8693-8B96FF7A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4719-C1A8-4854-A46C-45B1AAF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F26-5C33-45E8-A196-58D83AA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33C9-2B49-4A6F-ABD5-3F36B0A7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248A-237E-4CCA-AE6D-6531D6F2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9CD5-D1E5-4556-BA1F-DD0DBEC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6439-90A7-4708-BB78-4BED5B9E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D94E-38D4-4EDB-AA15-99ADCE12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94E4-7ACF-485E-B623-485A533D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9BA5-197A-4877-8456-2DAD9E70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4F5D-296A-45E9-83F4-C9F3336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D8E-59D1-4B1E-8796-F6C18863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6A7F-43C7-4D75-A1AF-719A99C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A574-E202-4718-A885-9A0392A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8BCB-BB2B-4045-86C5-5A03C40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928E-AB50-4716-B684-202B46E7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B919-9803-46E6-BF96-7524C9B4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C902-BA5B-4B43-8034-D52D8C47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0D58-5153-42BC-ABE2-F571A13D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BAB3-0523-433E-A51D-DDF72231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06C1-1F91-4568-9C00-93959FB9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2F0F-E135-4861-9BAE-A845A89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DE0-8CC1-4B15-8DEE-D70F828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EF68-723F-41FC-ADC7-DC15B18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D33F-2E11-4971-92D7-9A47ADD3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857B-2B5F-4186-B50C-6EA27243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86C2-AF12-4862-B6B8-76204C4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A23C-F8AE-4BCD-B622-319FB04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3EF0-82D4-4EBE-9DD2-A259C7C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7B530-2E72-4335-9320-4ED2DCC4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F598-EA5E-4D43-B0F3-E95528D6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363B4-A469-4CE2-BF78-9E3B56FD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3BB4-E81D-4C90-B85E-4CF3EB2E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58C-B95B-45CE-8825-7506E919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4642-538F-487C-B56D-BDDD034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DB3A-1546-46C6-AA48-745C030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2DA8E-5C4B-4EB4-8AE0-00BEE8F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F3FD-2FD7-4E0D-8C95-B3CDEA4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2AC0-6DAA-46FB-8373-F82914E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0BE2-2728-4AA1-BBFC-574B0CF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D73B-CAA9-4F39-B323-6B3FE30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2E39-1F54-49B8-BF13-8B6CBB1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3C6F2-CE1A-4E6F-AC4A-AB79A81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94C3-48D4-4D57-AD2D-AE3F2F1C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09440" y="675720"/>
            <a:ext cx="712476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CF1-EF39-45F6-84FB-ACE332C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1856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27320" y="180720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00944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1856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27320" y="3923280"/>
            <a:ext cx="22939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E938-0450-469A-8B95-ECD9B600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077-98AC-4C1F-83B2-274D337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0200" y="392328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A80-2DDD-4512-B15F-40CA883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0944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0200" y="1807200"/>
            <a:ext cx="34765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09440" y="3923280"/>
            <a:ext cx="71247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FE2-C4A2-43AA-AC73-FB927C42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8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9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0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6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7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8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9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0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6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7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8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9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0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1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8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9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1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2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3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4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5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6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09440" y="1812960"/>
            <a:ext cx="3470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1009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663440" y="1812960"/>
            <a:ext cx="3470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663440" y="23893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dt" idx="1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 type="ftr" idx="2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8"/>
          <p:cNvSpPr>
            <a:spLocks noGrp="1"/>
          </p:cNvSpPr>
          <p:nvPr>
            <p:ph type="sldNum" idx="3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CFD7C32-D233-4EEB-983F-37C9950CD2C9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19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0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1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2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3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4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5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6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7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8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29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0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1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2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5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6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7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8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9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0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1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2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3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4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5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6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7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8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9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0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1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3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4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5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6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440" y="3307320"/>
            <a:ext cx="71168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5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6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014862-992F-4945-B1B3-7AFD8C5B273B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8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9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0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1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2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3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4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5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6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7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8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9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0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1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2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3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4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5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6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7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8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39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0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1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2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3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4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5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6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7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8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49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0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2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3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4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5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6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7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CF0F4F-1D4D-4472-8990-C07119CE30DE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7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8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19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0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1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2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3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4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5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6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7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8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29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0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1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2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3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4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5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6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7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8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39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0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1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2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3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4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5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6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7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8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49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1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2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3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4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5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6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9440" y="1387080"/>
            <a:ext cx="32976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009440" y="2500200"/>
            <a:ext cx="3297600" cy="25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0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1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DA731DF-72E7-480E-830D-B7103B35B849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5"/>
          <p:cNvGrpSpPr/>
          <p:nvPr/>
        </p:nvGrpSpPr>
        <p:grpSpPr>
          <a:xfrm>
            <a:off x="4516200" y="994320"/>
            <a:ext cx="1846440" cy="1530000"/>
            <a:chOff x="4516200" y="994320"/>
            <a:chExt cx="1846440" cy="1530000"/>
          </a:xfrm>
        </p:grpSpPr>
        <p:sp>
          <p:nvSpPr>
            <p:cNvPr id="364" name="Oval 31"/>
            <p:cNvSpPr/>
            <p:nvPr/>
          </p:nvSpPr>
          <p:spPr>
            <a:xfrm>
              <a:off x="5276520" y="1438200"/>
              <a:ext cx="1086120" cy="10861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5" name="Oval 32"/>
            <p:cNvSpPr/>
            <p:nvPr/>
          </p:nvSpPr>
          <p:spPr>
            <a:xfrm>
              <a:off x="5447880" y="1413000"/>
              <a:ext cx="830160" cy="83016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6" name="Oval 28"/>
            <p:cNvSpPr/>
            <p:nvPr/>
          </p:nvSpPr>
          <p:spPr>
            <a:xfrm>
              <a:off x="5053680" y="1895760"/>
              <a:ext cx="601920" cy="6019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7" name="Oval 30"/>
            <p:cNvSpPr/>
            <p:nvPr/>
          </p:nvSpPr>
          <p:spPr>
            <a:xfrm>
              <a:off x="5221440" y="1812600"/>
              <a:ext cx="489240" cy="48924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8" name="Oval 27"/>
            <p:cNvSpPr/>
            <p:nvPr/>
          </p:nvSpPr>
          <p:spPr>
            <a:xfrm>
              <a:off x="4516200" y="2084760"/>
              <a:ext cx="256320" cy="2563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69" name="Oval 29"/>
            <p:cNvSpPr/>
            <p:nvPr/>
          </p:nvSpPr>
          <p:spPr>
            <a:xfrm>
              <a:off x="5929560" y="994320"/>
              <a:ext cx="256320" cy="256320"/>
            </a:xfrm>
            <a:prstGeom prst="ellipse">
              <a:avLst/>
            </a:prstGeom>
            <a:noFill/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70" name="Oval 33"/>
            <p:cNvSpPr/>
            <p:nvPr/>
          </p:nvSpPr>
          <p:spPr>
            <a:xfrm>
              <a:off x="4857120" y="1895760"/>
              <a:ext cx="196920" cy="19692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  <p:sp>
          <p:nvSpPr>
            <p:cNvPr id="371" name="Oval 34"/>
            <p:cNvSpPr/>
            <p:nvPr/>
          </p:nvSpPr>
          <p:spPr>
            <a:xfrm>
              <a:off x="5946120" y="1062000"/>
              <a:ext cx="196920" cy="19692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cap="rnd">
              <a:solidFill>
                <a:srgbClr val="fedd78">
                  <a:lumMod val="75000"/>
                </a:srgbClr>
              </a:solidFill>
              <a:round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  <a:scene3d>
              <a:camera prst="orthographicFront">
                <a:rot lat="0" lon="0" rev="0"/>
              </a:camera>
              <a:lightRig dir="tl" rig="threePt"/>
            </a:scene3d>
            <a:sp3d extrusionH="25400"/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Verdana"/>
              </a:endParaRPr>
            </a:p>
          </p:txBody>
        </p:sp>
      </p:grpSp>
      <p:sp>
        <p:nvSpPr>
          <p:cNvPr id="372" name="PlaceHolder 6"/>
          <p:cNvSpPr>
            <a:spLocks noGrp="1"/>
          </p:cNvSpPr>
          <p:nvPr>
            <p:ph type="body"/>
          </p:nvPr>
        </p:nvSpPr>
        <p:spPr>
          <a:xfrm>
            <a:off x="4674240" y="1601640"/>
            <a:ext cx="3428640" cy="3428640"/>
          </a:xfrm>
          <a:prstGeom prst="rect">
            <a:avLst/>
          </a:prstGeom>
          <a:noFill/>
          <a:ln w="76320">
            <a:solidFill>
              <a:srgbClr val="fdc61b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icon to add pic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5"/>
            </a:gs>
            <a:gs pos="100000">
              <a:srgbClr val="d0320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55"/>
          <p:cNvSpPr/>
          <p:nvPr/>
        </p:nvSpPr>
        <p:spPr>
          <a:xfrm>
            <a:off x="-69480" y="4042440"/>
            <a:ext cx="1743480" cy="1908720"/>
          </a:xfrm>
          <a:custGeom>
            <a:avLst/>
            <a:gdLst>
              <a:gd name="textAreaLeft" fmla="*/ 0 w 1743480"/>
              <a:gd name="textAreaRight" fmla="*/ 1743840 w 17434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743945" h="1909234">
                <a:moveTo>
                  <a:pt x="789328" y="0"/>
                </a:moveTo>
                <a:cubicBezTo>
                  <a:pt x="1316548" y="0"/>
                  <a:pt x="1743945" y="427397"/>
                  <a:pt x="1743945" y="954617"/>
                </a:cubicBezTo>
                <a:cubicBezTo>
                  <a:pt x="1743945" y="1481837"/>
                  <a:pt x="1316548" y="1909234"/>
                  <a:pt x="789328" y="1909234"/>
                </a:cubicBezTo>
                <a:cubicBezTo>
                  <a:pt x="461080" y="1909234"/>
                  <a:pt x="171527" y="1743562"/>
                  <a:pt x="0" y="1491086"/>
                </a:cubicBezTo>
                <a:lnTo>
                  <a:pt x="0" y="418149"/>
                </a:lnTo>
                <a:cubicBezTo>
                  <a:pt x="171527" y="165673"/>
                  <a:pt x="461080" y="0"/>
                  <a:pt x="789328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Oval 52"/>
          <p:cNvSpPr/>
          <p:nvPr/>
        </p:nvSpPr>
        <p:spPr>
          <a:xfrm>
            <a:off x="520560" y="10954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Oval 51"/>
          <p:cNvSpPr/>
          <p:nvPr/>
        </p:nvSpPr>
        <p:spPr>
          <a:xfrm>
            <a:off x="1878840" y="2829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Oval 53"/>
          <p:cNvSpPr/>
          <p:nvPr/>
        </p:nvSpPr>
        <p:spPr>
          <a:xfrm>
            <a:off x="520560" y="5729040"/>
            <a:ext cx="1908720" cy="119340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909234" h="1193756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037305"/>
                  <a:pt x="1898721" y="1117537"/>
                  <a:pt x="1877819" y="1193756"/>
                </a:cubicBezTo>
                <a:lnTo>
                  <a:pt x="31415" y="1193756"/>
                </a:lnTo>
                <a:cubicBezTo>
                  <a:pt x="10513" y="1117537"/>
                  <a:pt x="0" y="103730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Oval 129"/>
          <p:cNvSpPr/>
          <p:nvPr/>
        </p:nvSpPr>
        <p:spPr>
          <a:xfrm>
            <a:off x="-46800" y="-61560"/>
            <a:ext cx="1448640" cy="1676880"/>
          </a:xfrm>
          <a:custGeom>
            <a:avLst/>
            <a:gdLst>
              <a:gd name="textAreaLeft" fmla="*/ 0 w 1448640"/>
              <a:gd name="textAreaRight" fmla="*/ 1449000 w 144864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449107" h="1677064">
                <a:moveTo>
                  <a:pt x="0" y="0"/>
                </a:moveTo>
                <a:lnTo>
                  <a:pt x="1112019" y="0"/>
                </a:lnTo>
                <a:cubicBezTo>
                  <a:pt x="1319407" y="171874"/>
                  <a:pt x="1449107" y="432014"/>
                  <a:pt x="1449107" y="722447"/>
                </a:cubicBezTo>
                <a:cubicBezTo>
                  <a:pt x="1449107" y="1249667"/>
                  <a:pt x="1021710" y="1677064"/>
                  <a:pt x="494490" y="1677064"/>
                </a:cubicBezTo>
                <a:cubicBezTo>
                  <a:pt x="313232" y="1677064"/>
                  <a:pt x="143772" y="1626546"/>
                  <a:pt x="0" y="1537872"/>
                </a:cubicBezTo>
                <a:close/>
              </a:path>
            </a:pathLst>
          </a:custGeom>
          <a:solidFill>
            <a:schemeClr val="tx2">
              <a:lumMod val="75000"/>
              <a:alpha val="14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Oval 130"/>
          <p:cNvSpPr/>
          <p:nvPr/>
        </p:nvSpPr>
        <p:spPr>
          <a:xfrm>
            <a:off x="924120" y="-1616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2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Oval 131"/>
          <p:cNvSpPr/>
          <p:nvPr/>
        </p:nvSpPr>
        <p:spPr>
          <a:xfrm>
            <a:off x="0" y="66060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Oval 132"/>
          <p:cNvSpPr/>
          <p:nvPr/>
        </p:nvSpPr>
        <p:spPr>
          <a:xfrm>
            <a:off x="7497360" y="-61560"/>
            <a:ext cx="1694160" cy="1676880"/>
          </a:xfrm>
          <a:custGeom>
            <a:avLst/>
            <a:gdLst>
              <a:gd name="textAreaLeft" fmla="*/ 0 w 1694160"/>
              <a:gd name="textAreaRight" fmla="*/ 1694520 w 1694160"/>
              <a:gd name="textAreaTop" fmla="*/ 0 h 1676880"/>
              <a:gd name="textAreaBottom" fmla="*/ 1677240 h 1676880"/>
            </a:gdLst>
            <a:ahLst/>
            <a:rect l="textAreaLeft" t="textAreaTop" r="textAreaRight" b="textAreaBottom"/>
            <a:pathLst>
              <a:path w="1694467" h="1677064">
                <a:moveTo>
                  <a:pt x="337088" y="0"/>
                </a:moveTo>
                <a:lnTo>
                  <a:pt x="1573463" y="0"/>
                </a:lnTo>
                <a:cubicBezTo>
                  <a:pt x="1618202" y="37449"/>
                  <a:pt x="1658454" y="79950"/>
                  <a:pt x="1694467" y="126010"/>
                </a:cubicBezTo>
                <a:lnTo>
                  <a:pt x="1694467" y="1318884"/>
                </a:lnTo>
                <a:cubicBezTo>
                  <a:pt x="1522840" y="1538397"/>
                  <a:pt x="1254922" y="1677064"/>
                  <a:pt x="954617" y="1677064"/>
                </a:cubicBezTo>
                <a:cubicBezTo>
                  <a:pt x="427397" y="1677064"/>
                  <a:pt x="0" y="1249667"/>
                  <a:pt x="0" y="722447"/>
                </a:cubicBezTo>
                <a:cubicBezTo>
                  <a:pt x="0" y="432014"/>
                  <a:pt x="129700" y="171874"/>
                  <a:pt x="337088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Oval 133"/>
          <p:cNvSpPr/>
          <p:nvPr/>
        </p:nvSpPr>
        <p:spPr>
          <a:xfrm>
            <a:off x="6117480" y="-61560"/>
            <a:ext cx="1908720" cy="170496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704960"/>
              <a:gd name="textAreaBottom" fmla="*/ 1705320 h 1704960"/>
            </a:gdLst>
            <a:ahLst/>
            <a:rect l="textAreaLeft" t="textAreaTop" r="textAreaRight" b="textAreaBottom"/>
            <a:pathLst>
              <a:path w="1909234" h="1705448">
                <a:moveTo>
                  <a:pt x="371490" y="0"/>
                </a:moveTo>
                <a:lnTo>
                  <a:pt x="1537745" y="0"/>
                </a:lnTo>
                <a:cubicBezTo>
                  <a:pt x="1764760" y="171517"/>
                  <a:pt x="1909234" y="444302"/>
                  <a:pt x="1909234" y="750831"/>
                </a:cubicBezTo>
                <a:cubicBezTo>
                  <a:pt x="1909234" y="1278051"/>
                  <a:pt x="1481837" y="1705448"/>
                  <a:pt x="954617" y="1705448"/>
                </a:cubicBezTo>
                <a:cubicBezTo>
                  <a:pt x="427397" y="1705448"/>
                  <a:pt x="0" y="1278051"/>
                  <a:pt x="0" y="750831"/>
                </a:cubicBezTo>
                <a:cubicBezTo>
                  <a:pt x="0" y="444302"/>
                  <a:pt x="144474" y="171517"/>
                  <a:pt x="37149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Oval 134"/>
          <p:cNvSpPr/>
          <p:nvPr/>
        </p:nvSpPr>
        <p:spPr>
          <a:xfrm>
            <a:off x="7494480" y="1095480"/>
            <a:ext cx="1697040" cy="1908720"/>
          </a:xfrm>
          <a:custGeom>
            <a:avLst/>
            <a:gdLst>
              <a:gd name="textAreaLeft" fmla="*/ 0 w 1697040"/>
              <a:gd name="textAreaRight" fmla="*/ 1697400 w 169704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697544" h="1909234">
                <a:moveTo>
                  <a:pt x="954617" y="0"/>
                </a:moveTo>
                <a:cubicBezTo>
                  <a:pt x="1256666" y="0"/>
                  <a:pt x="1525952" y="140283"/>
                  <a:pt x="1697544" y="361910"/>
                </a:cubicBezTo>
                <a:lnTo>
                  <a:pt x="1697544" y="1547324"/>
                </a:lnTo>
                <a:cubicBezTo>
                  <a:pt x="1525952" y="1768951"/>
                  <a:pt x="1256666" y="1909234"/>
                  <a:pt x="954617" y="1909234"/>
                </a:cubicBezTo>
                <a:cubicBezTo>
                  <a:pt x="427397" y="1909234"/>
                  <a:pt x="0" y="1481837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Oval 135"/>
          <p:cNvSpPr/>
          <p:nvPr/>
        </p:nvSpPr>
        <p:spPr>
          <a:xfrm>
            <a:off x="8056800" y="5140440"/>
            <a:ext cx="1136880" cy="175932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1759320"/>
              <a:gd name="textAreaBottom" fmla="*/ 1759680 h 1759320"/>
            </a:gdLst>
            <a:ahLst/>
            <a:rect l="textAreaLeft" t="textAreaTop" r="textAreaRight" b="textAreaBottom"/>
            <a:pathLst>
              <a:path w="1137194" h="1759729">
                <a:moveTo>
                  <a:pt x="954617" y="0"/>
                </a:moveTo>
                <a:cubicBezTo>
                  <a:pt x="1017088" y="0"/>
                  <a:pt x="1078157" y="6001"/>
                  <a:pt x="1137194" y="17897"/>
                </a:cubicBezTo>
                <a:lnTo>
                  <a:pt x="1137194" y="1759729"/>
                </a:lnTo>
                <a:lnTo>
                  <a:pt x="443151" y="1759729"/>
                </a:lnTo>
                <a:cubicBezTo>
                  <a:pt x="176544" y="1591075"/>
                  <a:pt x="0" y="1293463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Oval 136"/>
          <p:cNvSpPr/>
          <p:nvPr/>
        </p:nvSpPr>
        <p:spPr>
          <a:xfrm>
            <a:off x="6661800" y="43628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Oval 137"/>
          <p:cNvSpPr/>
          <p:nvPr/>
        </p:nvSpPr>
        <p:spPr>
          <a:xfrm>
            <a:off x="-69480" y="4948920"/>
            <a:ext cx="1353600" cy="1908720"/>
          </a:xfrm>
          <a:custGeom>
            <a:avLst/>
            <a:gdLst>
              <a:gd name="textAreaLeft" fmla="*/ 0 w 1353600"/>
              <a:gd name="textAreaRight" fmla="*/ 1353960 w 135360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53860" h="1909234">
                <a:moveTo>
                  <a:pt x="399243" y="0"/>
                </a:moveTo>
                <a:cubicBezTo>
                  <a:pt x="926463" y="0"/>
                  <a:pt x="1353860" y="427397"/>
                  <a:pt x="1353860" y="954617"/>
                </a:cubicBezTo>
                <a:cubicBezTo>
                  <a:pt x="1353860" y="1481837"/>
                  <a:pt x="926463" y="1909234"/>
                  <a:pt x="399243" y="1909234"/>
                </a:cubicBezTo>
                <a:cubicBezTo>
                  <a:pt x="256544" y="1909234"/>
                  <a:pt x="121158" y="1877924"/>
                  <a:pt x="0" y="1820890"/>
                </a:cubicBezTo>
                <a:lnTo>
                  <a:pt x="0" y="88345"/>
                </a:lnTo>
                <a:cubicBezTo>
                  <a:pt x="121158" y="31311"/>
                  <a:pt x="256544" y="0"/>
                  <a:pt x="399243" y="0"/>
                </a:cubicBezTo>
                <a:close/>
              </a:path>
            </a:pathLst>
          </a:custGeom>
          <a:solidFill>
            <a:schemeClr val="tx2">
              <a:lumMod val="75000"/>
              <a:alpha val="16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Oval 138"/>
          <p:cNvSpPr/>
          <p:nvPr/>
        </p:nvSpPr>
        <p:spPr>
          <a:xfrm>
            <a:off x="708480" y="479016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Oval 139"/>
          <p:cNvSpPr/>
          <p:nvPr/>
        </p:nvSpPr>
        <p:spPr>
          <a:xfrm>
            <a:off x="6117480" y="78408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5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Oval 140"/>
          <p:cNvSpPr/>
          <p:nvPr/>
        </p:nvSpPr>
        <p:spPr>
          <a:xfrm>
            <a:off x="6459120" y="5140440"/>
            <a:ext cx="1908720" cy="190872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Oval 117"/>
          <p:cNvSpPr/>
          <p:nvPr/>
        </p:nvSpPr>
        <p:spPr>
          <a:xfrm>
            <a:off x="8398080" y="597960"/>
            <a:ext cx="793440" cy="1252440"/>
          </a:xfrm>
          <a:custGeom>
            <a:avLst/>
            <a:gdLst>
              <a:gd name="textAreaLeft" fmla="*/ 0 w 793440"/>
              <a:gd name="textAreaRight" fmla="*/ 793800 w 7934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793794" h="1252918">
                <a:moveTo>
                  <a:pt x="626459" y="0"/>
                </a:moveTo>
                <a:cubicBezTo>
                  <a:pt x="684682" y="0"/>
                  <a:pt x="741049" y="7943"/>
                  <a:pt x="793794" y="25480"/>
                </a:cubicBezTo>
                <a:lnTo>
                  <a:pt x="793794" y="1227438"/>
                </a:lnTo>
                <a:cubicBezTo>
                  <a:pt x="741049" y="1244975"/>
                  <a:pt x="684682" y="1252918"/>
                  <a:pt x="626459" y="1252918"/>
                </a:cubicBezTo>
                <a:cubicBezTo>
                  <a:pt x="280475" y="1252918"/>
                  <a:pt x="0" y="972443"/>
                  <a:pt x="0" y="626459"/>
                </a:cubicBezTo>
                <a:cubicBezTo>
                  <a:pt x="0" y="280475"/>
                  <a:pt x="280475" y="0"/>
                  <a:pt x="626459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6" name="Oval 118"/>
          <p:cNvSpPr/>
          <p:nvPr/>
        </p:nvSpPr>
        <p:spPr>
          <a:xfrm>
            <a:off x="6350040" y="2066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7" name="Oval 119"/>
          <p:cNvSpPr/>
          <p:nvPr/>
        </p:nvSpPr>
        <p:spPr>
          <a:xfrm>
            <a:off x="6872040" y="145080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8" name="Oval 120"/>
          <p:cNvSpPr/>
          <p:nvPr/>
        </p:nvSpPr>
        <p:spPr>
          <a:xfrm>
            <a:off x="7219080" y="2049840"/>
            <a:ext cx="1040760" cy="104076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29" name="Oval 121"/>
          <p:cNvSpPr/>
          <p:nvPr/>
        </p:nvSpPr>
        <p:spPr>
          <a:xfrm>
            <a:off x="7749360" y="2661480"/>
            <a:ext cx="721080" cy="7210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0" name="Oval 122"/>
          <p:cNvSpPr/>
          <p:nvPr/>
        </p:nvSpPr>
        <p:spPr>
          <a:xfrm>
            <a:off x="685080" y="-100800"/>
            <a:ext cx="1193400" cy="697320"/>
          </a:xfrm>
          <a:custGeom>
            <a:avLst/>
            <a:gdLst>
              <a:gd name="textAreaLeft" fmla="*/ 0 w 1193400"/>
              <a:gd name="textAreaRight" fmla="*/ 1193760 w 1193400"/>
              <a:gd name="textAreaTop" fmla="*/ 0 h 697320"/>
              <a:gd name="textAreaBottom" fmla="*/ 697680 h 697320"/>
            </a:gdLst>
            <a:ahLst/>
            <a:rect l="textAreaLeft" t="textAreaTop" r="textAreaRight" b="textAreaBottom"/>
            <a:pathLst>
              <a:path w="1193676" h="697815">
                <a:moveTo>
                  <a:pt x="10179" y="0"/>
                </a:moveTo>
                <a:lnTo>
                  <a:pt x="1183497" y="0"/>
                </a:lnTo>
                <a:cubicBezTo>
                  <a:pt x="1190746" y="32633"/>
                  <a:pt x="1193676" y="66463"/>
                  <a:pt x="1193676" y="100977"/>
                </a:cubicBezTo>
                <a:cubicBezTo>
                  <a:pt x="1193676" y="430602"/>
                  <a:pt x="926463" y="697815"/>
                  <a:pt x="596838" y="697815"/>
                </a:cubicBezTo>
                <a:cubicBezTo>
                  <a:pt x="267213" y="697815"/>
                  <a:pt x="0" y="430602"/>
                  <a:pt x="0" y="100977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1" name="Oval 123"/>
          <p:cNvSpPr/>
          <p:nvPr/>
        </p:nvSpPr>
        <p:spPr>
          <a:xfrm>
            <a:off x="1502640" y="-100800"/>
            <a:ext cx="1028520" cy="45936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459360"/>
              <a:gd name="textAreaBottom" fmla="*/ 459720 h 459360"/>
            </a:gdLst>
            <a:ahLst/>
            <a:rect l="textAreaLeft" t="textAreaTop" r="textAreaRight" b="textAreaBottom"/>
            <a:pathLst>
              <a:path w="1029028" h="459889">
                <a:moveTo>
                  <a:pt x="0" y="0"/>
                </a:moveTo>
                <a:lnTo>
                  <a:pt x="1029028" y="0"/>
                </a:lnTo>
                <a:cubicBezTo>
                  <a:pt x="1001386" y="259074"/>
                  <a:pt x="781401" y="459889"/>
                  <a:pt x="514514" y="459889"/>
                </a:cubicBezTo>
                <a:cubicBezTo>
                  <a:pt x="247627" y="459889"/>
                  <a:pt x="27642" y="259074"/>
                  <a:pt x="0" y="0"/>
                </a:cubicBez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2" name="Oval 124"/>
          <p:cNvSpPr/>
          <p:nvPr/>
        </p:nvSpPr>
        <p:spPr>
          <a:xfrm>
            <a:off x="-69480" y="-100800"/>
            <a:ext cx="590040" cy="612000"/>
          </a:xfrm>
          <a:custGeom>
            <a:avLst/>
            <a:gdLst>
              <a:gd name="textAreaLeft" fmla="*/ 0 w 590040"/>
              <a:gd name="textAreaRight" fmla="*/ 590400 w 590040"/>
              <a:gd name="textAreaTop" fmla="*/ 0 h 612000"/>
              <a:gd name="textAreaBottom" fmla="*/ 612360 h 612000"/>
            </a:gdLst>
            <a:ahLst/>
            <a:rect l="textAreaLeft" t="textAreaTop" r="textAreaRight" b="textAreaBottom"/>
            <a:pathLst>
              <a:path w="590263" h="612289">
                <a:moveTo>
                  <a:pt x="0" y="0"/>
                </a:moveTo>
                <a:lnTo>
                  <a:pt x="581024" y="0"/>
                </a:lnTo>
                <a:cubicBezTo>
                  <a:pt x="587493" y="29611"/>
                  <a:pt x="590263" y="60308"/>
                  <a:pt x="590263" y="91651"/>
                </a:cubicBezTo>
                <a:cubicBezTo>
                  <a:pt x="590263" y="379191"/>
                  <a:pt x="357165" y="612289"/>
                  <a:pt x="69625" y="612289"/>
                </a:cubicBezTo>
                <a:lnTo>
                  <a:pt x="0" y="605270"/>
                </a:lnTo>
                <a:close/>
              </a:path>
            </a:pathLst>
          </a:cu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6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3" name="Oval 125"/>
          <p:cNvSpPr/>
          <p:nvPr/>
        </p:nvSpPr>
        <p:spPr>
          <a:xfrm>
            <a:off x="277560" y="4321800"/>
            <a:ext cx="1396440" cy="1396440"/>
          </a:xfrm>
          <a:prstGeom prst="ellipse">
            <a:avLst/>
          </a:pr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4" name="Oval 126"/>
          <p:cNvSpPr/>
          <p:nvPr/>
        </p:nvSpPr>
        <p:spPr>
          <a:xfrm>
            <a:off x="5792040" y="6490080"/>
            <a:ext cx="1115640" cy="443520"/>
          </a:xfrm>
          <a:custGeom>
            <a:avLst/>
            <a:gdLst>
              <a:gd name="textAreaLeft" fmla="*/ 0 w 1115640"/>
              <a:gd name="textAreaRight" fmla="*/ 1116000 w 111564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1115939" h="443769">
                <a:moveTo>
                  <a:pt x="557969" y="0"/>
                </a:moveTo>
                <a:cubicBezTo>
                  <a:pt x="830120" y="0"/>
                  <a:pt x="1058049" y="189335"/>
                  <a:pt x="1115939" y="443769"/>
                </a:cubicBezTo>
                <a:lnTo>
                  <a:pt x="0" y="443769"/>
                </a:lnTo>
                <a:cubicBezTo>
                  <a:pt x="57889" y="189335"/>
                  <a:pt x="285818" y="0"/>
                  <a:pt x="55796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5" name="Oval 127"/>
          <p:cNvSpPr/>
          <p:nvPr/>
        </p:nvSpPr>
        <p:spPr>
          <a:xfrm>
            <a:off x="6127920" y="6408720"/>
            <a:ext cx="1236600" cy="52452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37019" h="524894">
                <a:moveTo>
                  <a:pt x="618509" y="0"/>
                </a:moveTo>
                <a:cubicBezTo>
                  <a:pt x="930325" y="0"/>
                  <a:pt x="1189147" y="226891"/>
                  <a:pt x="1237019" y="524894"/>
                </a:cubicBezTo>
                <a:lnTo>
                  <a:pt x="0" y="524894"/>
                </a:lnTo>
                <a:cubicBezTo>
                  <a:pt x="47872" y="226891"/>
                  <a:pt x="306694" y="0"/>
                  <a:pt x="618509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6" name="Oval 128"/>
          <p:cNvSpPr/>
          <p:nvPr/>
        </p:nvSpPr>
        <p:spPr>
          <a:xfrm>
            <a:off x="7577640" y="6408720"/>
            <a:ext cx="1211040" cy="524520"/>
          </a:xfrm>
          <a:custGeom>
            <a:avLst/>
            <a:gdLst>
              <a:gd name="textAreaLeft" fmla="*/ 0 w 1211040"/>
              <a:gd name="textAreaRight" fmla="*/ 1211400 w 1211040"/>
              <a:gd name="textAreaTop" fmla="*/ 0 h 524520"/>
              <a:gd name="textAreaBottom" fmla="*/ 524880 h 524520"/>
            </a:gdLst>
            <a:ahLst/>
            <a:rect l="textAreaLeft" t="textAreaTop" r="textAreaRight" b="textAreaBottom"/>
            <a:pathLst>
              <a:path w="1211408" h="524893">
                <a:moveTo>
                  <a:pt x="605704" y="0"/>
                </a:moveTo>
                <a:cubicBezTo>
                  <a:pt x="914574" y="0"/>
                  <a:pt x="1170243" y="227782"/>
                  <a:pt x="1211408" y="524893"/>
                </a:cubicBezTo>
                <a:lnTo>
                  <a:pt x="0" y="524893"/>
                </a:lnTo>
                <a:cubicBezTo>
                  <a:pt x="41165" y="227782"/>
                  <a:pt x="296834" y="0"/>
                  <a:pt x="605704" y="0"/>
                </a:cubicBezTo>
                <a:close/>
              </a:path>
            </a:pathLst>
          </a:custGeom>
          <a:solidFill>
            <a:schemeClr val="tx2">
              <a:lumMod val="75000"/>
              <a:alpha val="6000"/>
            </a:schemeClr>
          </a:solidFill>
          <a:ln cap="rnd" w="177800">
            <a:solidFill>
              <a:srgbClr val="fedd78">
                <a:lumMod val="60000"/>
                <a:lumOff val="40000"/>
                <a:alpha val="400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7" name="Oval 96"/>
          <p:cNvSpPr/>
          <p:nvPr/>
        </p:nvSpPr>
        <p:spPr>
          <a:xfrm>
            <a:off x="11160" y="4942080"/>
            <a:ext cx="610920" cy="6109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8" name="Oval 97"/>
          <p:cNvSpPr/>
          <p:nvPr/>
        </p:nvSpPr>
        <p:spPr>
          <a:xfrm>
            <a:off x="-69480" y="6172560"/>
            <a:ext cx="777600" cy="749880"/>
          </a:xfrm>
          <a:custGeom>
            <a:avLst/>
            <a:gdLst>
              <a:gd name="textAreaLeft" fmla="*/ 0 w 777600"/>
              <a:gd name="textAreaRight" fmla="*/ 777960 w 777600"/>
              <a:gd name="textAreaTop" fmla="*/ 0 h 749880"/>
              <a:gd name="textAreaBottom" fmla="*/ 750240 h 749880"/>
            </a:gdLst>
            <a:ahLst/>
            <a:rect l="textAreaLeft" t="textAreaTop" r="textAreaRight" b="textAreaBottom"/>
            <a:pathLst>
              <a:path w="778097" h="750322">
                <a:moveTo>
                  <a:pt x="261411" y="0"/>
                </a:moveTo>
                <a:cubicBezTo>
                  <a:pt x="546769" y="0"/>
                  <a:pt x="778097" y="231328"/>
                  <a:pt x="778097" y="516686"/>
                </a:cubicBezTo>
                <a:cubicBezTo>
                  <a:pt x="778097" y="601179"/>
                  <a:pt x="757816" y="680934"/>
                  <a:pt x="719843" y="750322"/>
                </a:cubicBezTo>
                <a:lnTo>
                  <a:pt x="0" y="750322"/>
                </a:lnTo>
                <a:lnTo>
                  <a:pt x="0" y="73330"/>
                </a:lnTo>
                <a:cubicBezTo>
                  <a:pt x="75863" y="26083"/>
                  <a:pt x="165591" y="0"/>
                  <a:pt x="26141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39" name="Oval 98"/>
          <p:cNvSpPr/>
          <p:nvPr/>
        </p:nvSpPr>
        <p:spPr>
          <a:xfrm>
            <a:off x="-69480" y="5158440"/>
            <a:ext cx="563040" cy="897120"/>
          </a:xfrm>
          <a:custGeom>
            <a:avLst/>
            <a:gdLst>
              <a:gd name="textAreaLeft" fmla="*/ 0 w 563040"/>
              <a:gd name="textAreaRight" fmla="*/ 563400 w 56304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563524" h="897560">
                <a:moveTo>
                  <a:pt x="114744" y="0"/>
                </a:moveTo>
                <a:cubicBezTo>
                  <a:pt x="362598" y="0"/>
                  <a:pt x="563524" y="200926"/>
                  <a:pt x="563524" y="448780"/>
                </a:cubicBezTo>
                <a:cubicBezTo>
                  <a:pt x="563524" y="696634"/>
                  <a:pt x="362598" y="897560"/>
                  <a:pt x="114744" y="897560"/>
                </a:cubicBezTo>
                <a:cubicBezTo>
                  <a:pt x="74918" y="897560"/>
                  <a:pt x="36304" y="892373"/>
                  <a:pt x="0" y="880900"/>
                </a:cubicBezTo>
                <a:lnTo>
                  <a:pt x="0" y="16661"/>
                </a:lnTo>
                <a:cubicBezTo>
                  <a:pt x="36304" y="5188"/>
                  <a:pt x="74918" y="0"/>
                  <a:pt x="11474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0" name="Oval 99"/>
          <p:cNvSpPr/>
          <p:nvPr/>
        </p:nvSpPr>
        <p:spPr>
          <a:xfrm>
            <a:off x="-25920" y="482400"/>
            <a:ext cx="597960" cy="905400"/>
          </a:xfrm>
          <a:custGeom>
            <a:avLst/>
            <a:gdLst>
              <a:gd name="textAreaLeft" fmla="*/ 0 w 597960"/>
              <a:gd name="textAreaRight" fmla="*/ 598320 w 597960"/>
              <a:gd name="textAreaTop" fmla="*/ 0 h 905400"/>
              <a:gd name="textAreaBottom" fmla="*/ 905760 h 905400"/>
            </a:gdLst>
            <a:ahLst/>
            <a:rect l="textAreaLeft" t="textAreaTop" r="textAreaRight" b="textAreaBottom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1" name="Oval 100"/>
          <p:cNvSpPr/>
          <p:nvPr/>
        </p:nvSpPr>
        <p:spPr>
          <a:xfrm>
            <a:off x="474120" y="836640"/>
            <a:ext cx="910440" cy="9104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2" name="Oval 101"/>
          <p:cNvSpPr/>
          <p:nvPr/>
        </p:nvSpPr>
        <p:spPr>
          <a:xfrm>
            <a:off x="319320" y="1452240"/>
            <a:ext cx="772560" cy="7725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3" name="Oval 102"/>
          <p:cNvSpPr/>
          <p:nvPr/>
        </p:nvSpPr>
        <p:spPr>
          <a:xfrm>
            <a:off x="371160" y="1887120"/>
            <a:ext cx="609840" cy="6098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4" name="Oval 103"/>
          <p:cNvSpPr/>
          <p:nvPr/>
        </p:nvSpPr>
        <p:spPr>
          <a:xfrm>
            <a:off x="154800" y="1919520"/>
            <a:ext cx="521280" cy="521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5" name="Oval 104"/>
          <p:cNvSpPr/>
          <p:nvPr/>
        </p:nvSpPr>
        <p:spPr>
          <a:xfrm>
            <a:off x="7302600" y="-61560"/>
            <a:ext cx="910440" cy="750600"/>
          </a:xfrm>
          <a:custGeom>
            <a:avLst/>
            <a:gdLst>
              <a:gd name="textAreaLeft" fmla="*/ 0 w 910440"/>
              <a:gd name="textAreaRight" fmla="*/ 910800 w 91044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910818" h="750833">
                <a:moveTo>
                  <a:pt x="111441" y="0"/>
                </a:moveTo>
                <a:lnTo>
                  <a:pt x="799378" y="0"/>
                </a:lnTo>
                <a:cubicBezTo>
                  <a:pt x="869408" y="78400"/>
                  <a:pt x="910818" y="182076"/>
                  <a:pt x="910818" y="295424"/>
                </a:cubicBezTo>
                <a:cubicBezTo>
                  <a:pt x="910818" y="546939"/>
                  <a:pt x="706924" y="750833"/>
                  <a:pt x="455409" y="750833"/>
                </a:cubicBezTo>
                <a:cubicBezTo>
                  <a:pt x="203894" y="750833"/>
                  <a:pt x="0" y="546939"/>
                  <a:pt x="0" y="295424"/>
                </a:cubicBezTo>
                <a:cubicBezTo>
                  <a:pt x="0" y="182076"/>
                  <a:pt x="41410" y="78400"/>
                  <a:pt x="111441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6" name="Oval 105"/>
          <p:cNvSpPr/>
          <p:nvPr/>
        </p:nvSpPr>
        <p:spPr>
          <a:xfrm>
            <a:off x="8718120" y="-61560"/>
            <a:ext cx="473400" cy="612720"/>
          </a:xfrm>
          <a:custGeom>
            <a:avLst/>
            <a:gdLst>
              <a:gd name="textAreaLeft" fmla="*/ 0 w 473400"/>
              <a:gd name="textAreaRight" fmla="*/ 473760 w 473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473874" h="613011">
                <a:moveTo>
                  <a:pt x="29684" y="0"/>
                </a:moveTo>
                <a:lnTo>
                  <a:pt x="473874" y="0"/>
                </a:lnTo>
                <a:lnTo>
                  <a:pt x="473874" y="611150"/>
                </a:lnTo>
                <a:cubicBezTo>
                  <a:pt x="467789" y="612887"/>
                  <a:pt x="461614" y="613011"/>
                  <a:pt x="455409" y="613011"/>
                </a:cubicBezTo>
                <a:cubicBezTo>
                  <a:pt x="203894" y="613011"/>
                  <a:pt x="0" y="409117"/>
                  <a:pt x="0" y="157602"/>
                </a:cubicBezTo>
                <a:cubicBezTo>
                  <a:pt x="0" y="101995"/>
                  <a:pt x="9966" y="48716"/>
                  <a:pt x="29684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7" name="Oval 106"/>
          <p:cNvSpPr/>
          <p:nvPr/>
        </p:nvSpPr>
        <p:spPr>
          <a:xfrm>
            <a:off x="7748280" y="282960"/>
            <a:ext cx="1128240" cy="112824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8" name="Oval 107"/>
          <p:cNvSpPr/>
          <p:nvPr/>
        </p:nvSpPr>
        <p:spPr>
          <a:xfrm>
            <a:off x="8914680" y="749520"/>
            <a:ext cx="276840" cy="907560"/>
          </a:xfrm>
          <a:custGeom>
            <a:avLst/>
            <a:gdLst>
              <a:gd name="textAreaLeft" fmla="*/ 0 w 276840"/>
              <a:gd name="textAreaRight" fmla="*/ 277200 w 2768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277280" h="907992">
                <a:moveTo>
                  <a:pt x="277280" y="0"/>
                </a:moveTo>
                <a:lnTo>
                  <a:pt x="277280" y="907992"/>
                </a:lnTo>
                <a:cubicBezTo>
                  <a:pt x="112021" y="824131"/>
                  <a:pt x="0" y="652146"/>
                  <a:pt x="0" y="453996"/>
                </a:cubicBezTo>
                <a:cubicBezTo>
                  <a:pt x="0" y="255847"/>
                  <a:pt x="112021" y="83861"/>
                  <a:pt x="277280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49" name="Oval 108"/>
          <p:cNvSpPr/>
          <p:nvPr/>
        </p:nvSpPr>
        <p:spPr>
          <a:xfrm>
            <a:off x="7590960" y="728640"/>
            <a:ext cx="969480" cy="9694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0" name="Oval 109"/>
          <p:cNvSpPr/>
          <p:nvPr/>
        </p:nvSpPr>
        <p:spPr>
          <a:xfrm>
            <a:off x="7470000" y="1326600"/>
            <a:ext cx="607680" cy="6076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30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1" name="Oval 110"/>
          <p:cNvSpPr/>
          <p:nvPr/>
        </p:nvSpPr>
        <p:spPr>
          <a:xfrm>
            <a:off x="7629840" y="5611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2" name="Oval 111"/>
          <p:cNvSpPr/>
          <p:nvPr/>
        </p:nvSpPr>
        <p:spPr>
          <a:xfrm>
            <a:off x="6972840" y="524232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3" name="Oval 112"/>
          <p:cNvSpPr/>
          <p:nvPr/>
        </p:nvSpPr>
        <p:spPr>
          <a:xfrm>
            <a:off x="7494480" y="4928040"/>
            <a:ext cx="738000" cy="738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4" name="Oval 113"/>
          <p:cNvSpPr/>
          <p:nvPr/>
        </p:nvSpPr>
        <p:spPr>
          <a:xfrm>
            <a:off x="8228880" y="5666400"/>
            <a:ext cx="605160" cy="60516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5" name="Oval 114"/>
          <p:cNvSpPr/>
          <p:nvPr/>
        </p:nvSpPr>
        <p:spPr>
          <a:xfrm>
            <a:off x="8078400" y="409788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6" name="Oval 115"/>
          <p:cNvSpPr/>
          <p:nvPr/>
        </p:nvSpPr>
        <p:spPr>
          <a:xfrm>
            <a:off x="8411760" y="5058000"/>
            <a:ext cx="553320" cy="5533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7" name="Oval 116"/>
          <p:cNvSpPr/>
          <p:nvPr/>
        </p:nvSpPr>
        <p:spPr>
          <a:xfrm>
            <a:off x="8688600" y="4790160"/>
            <a:ext cx="502920" cy="553320"/>
          </a:xfrm>
          <a:custGeom>
            <a:avLst/>
            <a:gdLst>
              <a:gd name="textAreaLeft" fmla="*/ 0 w 502920"/>
              <a:gd name="textAreaRight" fmla="*/ 503280 w 502920"/>
              <a:gd name="textAreaTop" fmla="*/ 0 h 553320"/>
              <a:gd name="textAreaBottom" fmla="*/ 553680 h 553320"/>
            </a:gdLst>
            <a:ahLst/>
            <a:rect l="textAreaLeft" t="textAreaTop" r="textAreaRight" b="textAreaBottom"/>
            <a:pathLst>
              <a:path w="503408" h="553550">
                <a:moveTo>
                  <a:pt x="276775" y="0"/>
                </a:moveTo>
                <a:cubicBezTo>
                  <a:pt x="370698" y="0"/>
                  <a:pt x="453694" y="46784"/>
                  <a:pt x="503408" y="118545"/>
                </a:cubicBezTo>
                <a:lnTo>
                  <a:pt x="503408" y="435005"/>
                </a:lnTo>
                <a:cubicBezTo>
                  <a:pt x="453694" y="506767"/>
                  <a:pt x="370698" y="553550"/>
                  <a:pt x="276775" y="553550"/>
                </a:cubicBezTo>
                <a:cubicBezTo>
                  <a:pt x="123916" y="553550"/>
                  <a:pt x="0" y="429634"/>
                  <a:pt x="0" y="276775"/>
                </a:cubicBezTo>
                <a:cubicBezTo>
                  <a:pt x="0" y="123916"/>
                  <a:pt x="123916" y="0"/>
                  <a:pt x="276775" y="0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58" name="Oval 54"/>
          <p:cNvSpPr/>
          <p:nvPr/>
        </p:nvSpPr>
        <p:spPr>
          <a:xfrm>
            <a:off x="1583280" y="5454360"/>
            <a:ext cx="1908720" cy="1468440"/>
          </a:xfrm>
          <a:custGeom>
            <a:avLst/>
            <a:gdLst>
              <a:gd name="textAreaLeft" fmla="*/ 0 w 1908720"/>
              <a:gd name="textAreaRight" fmla="*/ 1909080 w 19087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1909234" h="1468668">
                <a:moveTo>
                  <a:pt x="954617" y="0"/>
                </a:moveTo>
                <a:cubicBezTo>
                  <a:pt x="1481837" y="0"/>
                  <a:pt x="1909234" y="427397"/>
                  <a:pt x="1909234" y="954617"/>
                </a:cubicBezTo>
                <a:cubicBezTo>
                  <a:pt x="1909234" y="1144075"/>
                  <a:pt x="1854043" y="1320642"/>
                  <a:pt x="1758159" y="1468668"/>
                </a:cubicBezTo>
                <a:lnTo>
                  <a:pt x="151075" y="1468668"/>
                </a:lnTo>
                <a:cubicBezTo>
                  <a:pt x="55192" y="1320642"/>
                  <a:pt x="0" y="1144075"/>
                  <a:pt x="0" y="954617"/>
                </a:cubicBezTo>
                <a:cubicBezTo>
                  <a:pt x="0" y="427397"/>
                  <a:pt x="427397" y="0"/>
                  <a:pt x="954617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Oval 56"/>
          <p:cNvSpPr/>
          <p:nvPr/>
        </p:nvSpPr>
        <p:spPr>
          <a:xfrm>
            <a:off x="8570880" y="3382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0" name="Oval 57"/>
          <p:cNvSpPr/>
          <p:nvPr/>
        </p:nvSpPr>
        <p:spPr>
          <a:xfrm>
            <a:off x="8398080" y="353592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1" name="Oval 58"/>
          <p:cNvSpPr/>
          <p:nvPr/>
        </p:nvSpPr>
        <p:spPr>
          <a:xfrm>
            <a:off x="8608320" y="3688560"/>
            <a:ext cx="306000" cy="30600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2" name="Oval 59"/>
          <p:cNvSpPr/>
          <p:nvPr/>
        </p:nvSpPr>
        <p:spPr>
          <a:xfrm>
            <a:off x="154800" y="2698920"/>
            <a:ext cx="467280" cy="467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3" name="Oval 60"/>
          <p:cNvSpPr/>
          <p:nvPr/>
        </p:nvSpPr>
        <p:spPr>
          <a:xfrm>
            <a:off x="474120" y="3166560"/>
            <a:ext cx="458280" cy="45828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127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4" name="Oval 61"/>
          <p:cNvSpPr/>
          <p:nvPr/>
        </p:nvSpPr>
        <p:spPr>
          <a:xfrm>
            <a:off x="270360" y="3382920"/>
            <a:ext cx="351720" cy="351720"/>
          </a:xfrm>
          <a:prstGeom prst="ellipse">
            <a:avLst/>
          </a:prstGeom>
          <a:solidFill>
            <a:schemeClr val="accent3">
              <a:lumMod val="60000"/>
              <a:lumOff val="40000"/>
              <a:alpha val="5000"/>
            </a:schemeClr>
          </a:solidFill>
          <a:ln cap="rnd" w="63500">
            <a:solidFill>
              <a:srgbClr val="ffce2d">
                <a:lumMod val="60000"/>
                <a:lumOff val="40000"/>
                <a:alpha val="15000"/>
              </a:srgbClr>
            </a:solidFill>
            <a:round/>
          </a:ln>
          <a:effectLst>
            <a:softEdge rad="6336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5" name="Oval 62"/>
          <p:cNvSpPr/>
          <p:nvPr/>
        </p:nvSpPr>
        <p:spPr>
          <a:xfrm>
            <a:off x="-86760" y="2581560"/>
            <a:ext cx="1360080" cy="1908720"/>
          </a:xfrm>
          <a:custGeom>
            <a:avLst/>
            <a:gdLst>
              <a:gd name="textAreaLeft" fmla="*/ 0 w 1360080"/>
              <a:gd name="textAreaRight" fmla="*/ 1360440 w 1360080"/>
              <a:gd name="textAreaTop" fmla="*/ 0 h 1908720"/>
              <a:gd name="textAreaBottom" fmla="*/ 1909080 h 1908720"/>
            </a:gdLst>
            <a:ahLst/>
            <a:rect l="textAreaLeft" t="textAreaTop" r="textAreaRight" b="textAreaBottom"/>
            <a:pathLst>
              <a:path w="1360441" h="1909234">
                <a:moveTo>
                  <a:pt x="405824" y="0"/>
                </a:moveTo>
                <a:cubicBezTo>
                  <a:pt x="933044" y="0"/>
                  <a:pt x="1360441" y="427397"/>
                  <a:pt x="1360441" y="954617"/>
                </a:cubicBezTo>
                <a:cubicBezTo>
                  <a:pt x="1360441" y="1481837"/>
                  <a:pt x="933044" y="1909234"/>
                  <a:pt x="405824" y="1909234"/>
                </a:cubicBezTo>
                <a:cubicBezTo>
                  <a:pt x="260527" y="1909234"/>
                  <a:pt x="122812" y="1876773"/>
                  <a:pt x="0" y="1817719"/>
                </a:cubicBezTo>
                <a:lnTo>
                  <a:pt x="0" y="91515"/>
                </a:lnTo>
                <a:cubicBezTo>
                  <a:pt x="122812" y="32461"/>
                  <a:pt x="260527" y="0"/>
                  <a:pt x="405824" y="0"/>
                </a:cubicBezTo>
                <a:close/>
              </a:path>
            </a:pathLst>
          </a:custGeom>
          <a:solidFill>
            <a:schemeClr val="tx2">
              <a:lumMod val="75000"/>
              <a:alpha val="8000"/>
            </a:schemeClr>
          </a:solidFill>
          <a:ln cap="rnd" w="330200">
            <a:solidFill>
              <a:srgbClr val="ffce2d">
                <a:lumMod val="60000"/>
                <a:lumOff val="40000"/>
                <a:alpha val="0"/>
              </a:srgbClr>
            </a:solidFill>
            <a:round/>
          </a:ln>
          <a:effectLst>
            <a:softEdge rad="31752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6173280" y="2395440"/>
            <a:ext cx="1217880" cy="1217880"/>
          </a:xfrm>
          <a:prstGeom prst="ellipse">
            <a:avLst/>
          </a:prstGeom>
          <a:solidFill>
            <a:schemeClr val="tx2">
              <a:lumMod val="75000"/>
              <a:alpha val="10000"/>
            </a:schemeClr>
          </a:solidFill>
          <a:ln cap="rnd" w="177800">
            <a:solidFill>
              <a:srgbClr val="fedd78">
                <a:lumMod val="60000"/>
                <a:lumOff val="40000"/>
                <a:alpha val="0"/>
              </a:srgbClr>
            </a:solidFill>
            <a:round/>
          </a:ln>
          <a:effectLst>
            <a:softEdge rad="152280"/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09440" y="446040"/>
            <a:ext cx="2660400" cy="118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Master title sty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852720" y="446040"/>
            <a:ext cx="4279680" cy="54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2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21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05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05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21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05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05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body"/>
          </p:nvPr>
        </p:nvSpPr>
        <p:spPr>
          <a:xfrm>
            <a:off x="1009440" y="1631880"/>
            <a:ext cx="2660400" cy="42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4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dt" idx="13"/>
          </p:nvPr>
        </p:nvSpPr>
        <p:spPr>
          <a:xfrm>
            <a:off x="6437520" y="59518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1180800" y="5951880"/>
            <a:ext cx="525600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572760" y="5951880"/>
            <a:ext cx="608040" cy="36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0B97FCC-DAAA-4984-AB32-65B6092F5DF7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33920" y="3048120"/>
            <a:ext cx="3470760" cy="34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ve you encountered an adult that seemed to be going through a midlife crisis or transition? If so, how? If not, do you believe you will go through such a crisi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3470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y 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38680" y="2389320"/>
            <a:ext cx="2495520" cy="26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nera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dlife Trans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dlife Cri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pty-Nest Syndro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nopau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1327680" y="1905120"/>
            <a:ext cx="2883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fefdfd"/>
                </a:solidFill>
                <a:latin typeface="Verdana"/>
              </a:rPr>
              <a:t>Do 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09440" y="4777560"/>
            <a:ext cx="711684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2800" spc="-1" strike="noStrike">
                <a:solidFill>
                  <a:srgbClr val="fedd78"/>
                </a:solidFill>
                <a:latin typeface="Verdana"/>
              </a:rPr>
              <a:t>March 1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1398960" y="3733920"/>
            <a:ext cx="6301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291c"/>
                </a:solidFill>
                <a:latin typeface="Verdana"/>
              </a:rPr>
              <a:t>Middle Adulth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ik Eriks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reers and Communit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cial and Fami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088800" cy="32000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2348280" y="685800"/>
            <a:ext cx="44467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ce8e8"/>
                </a:solidFill>
                <a:latin typeface="Verdana"/>
              </a:rPr>
              <a:t>Generativ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900800" y="1752480"/>
            <a:ext cx="485748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 – 40 – 4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lization that “I’m not a kid anymo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men – 35- 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ngest child begins to leave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759000" y="3200400"/>
            <a:ext cx="2251440" cy="3385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437920" cy="23893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3"/>
          <p:cNvSpPr/>
          <p:nvPr/>
        </p:nvSpPr>
        <p:spPr>
          <a:xfrm>
            <a:off x="2854440" y="989280"/>
            <a:ext cx="39852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299" strike="noStrike">
                <a:solidFill>
                  <a:srgbClr val="cae858"/>
                </a:solidFill>
                <a:latin typeface="Verdana"/>
              </a:rPr>
              <a:t>Transi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9440" y="6757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592750934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09440" y="2500200"/>
            <a:ext cx="3485880" cy="33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ids grow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me feels emp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ent’s test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323880" cy="380952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4640" y="1500120"/>
            <a:ext cx="5288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fee16"/>
                </a:solidFill>
                <a:latin typeface="Verdana"/>
              </a:rPr>
              <a:t>The Empty-Nest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09440" y="446040"/>
            <a:ext cx="2660400" cy="118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opau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52720" y="446040"/>
            <a:ext cx="4279680" cy="54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009440" y="1631880"/>
            <a:ext cx="2660400" cy="42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0’s and 50’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hysical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otional Chang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4266720" cy="54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009440" y="18072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swer the following questio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What is the article discuss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w does a Mid Life Transition effect men? Wome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What are some emotional issues attached with this transiti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AutoNum type="arabicPeriod"/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w can severe cases be identified and treat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2033280" y="762120"/>
            <a:ext cx="5440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ce8e8"/>
                </a:solidFill>
                <a:latin typeface="Verdana"/>
              </a:rPr>
              <a:t>Web MD Artic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ummer">
  <a:themeElements>
    <a:clrScheme name="Summer">
      <a:dk1>
        <a:srgbClr val="000000"/>
      </a:dk1>
      <a:lt1>
        <a:srgbClr val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e89117"/>
      </a:dk2>
      <a:lt2>
        <a:srgbClr val="fedd78"/>
      </a:lt2>
      <a:accent1>
        <a:srgbClr val="a1b633"/>
      </a:accent1>
      <a:accent2>
        <a:srgbClr val="c4d73f"/>
      </a:accent2>
      <a:accent3>
        <a:srgbClr val="ffce2d"/>
      </a:accent3>
      <a:accent4>
        <a:srgbClr val="ffa600"/>
      </a:accent4>
      <a:accent5>
        <a:srgbClr val="ed5e00"/>
      </a:accent5>
      <a:accent6>
        <a:srgbClr val="c62d03"/>
      </a:accent6>
      <a:hlink>
        <a:srgbClr val="408080"/>
      </a:hlink>
      <a:folHlink>
        <a:srgbClr val="5eaea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972873[[fn=Summer]]</Template>
  <TotalTime>140</TotalTime>
  <Application>LibreOffice/7.4.7.2$Linux_X86_64 LibreOffice_project/40$Build-2</Application>
  <AppVersion>15.0000</AppVersion>
  <Words>217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5:18:53Z</dcterms:created>
  <dc:creator>Michael</dc:creator>
  <dc:description/>
  <dc:language>en-US</dc:language>
  <cp:lastModifiedBy>Michael</cp:lastModifiedBy>
  <dcterms:modified xsi:type="dcterms:W3CDTF">2011-03-01T07:39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